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95D11E-C88E-4517-86BC-8FA7837A10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0DDA21-02F6-4B6F-A04D-33CADA78EB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DA0C9B-2C14-48EC-AE6E-0AF405F591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4B1C57-4294-464F-81AC-6044407126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51A-8CAE-4313-907F-C03A14B1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FB6-7862-4B43-A207-09B256ED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A34-DE87-4FA3-97B9-A61EFC0A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6AB-3646-4C34-A2E5-A1B17853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502-80EE-4589-885E-9429DB72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D3E-A0CD-4B8D-8BE2-5599C40A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CF4-A1CA-4B38-803B-30BB2124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7A5-13BB-4B83-8A14-5368C5D2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BED-7703-47BC-A706-3677F67F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410-D187-4399-884A-EA226457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E5E-6BC7-4AF6-9B5A-4ABF0872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637-7350-460F-94CA-B65C119E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E6D7-F808-4D73-A397-394B5746B6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.marion.or.us/NR/rdonlyres/92FA5101-FC21-4B56-9FD8-4474435C877D/4837/Recycle20ArrowswGlobe20Guy.jpg&amp;imgrefurl=http://www.co.marion.or.us/PW/ES/recycle/&amp;h=2079&amp;w=2085&amp;sz=187&amp;hl=en&amp;start=6&amp;um=1&amp;tbnid=f-hwICzSxDDmKM:&amp;tbnh=150&amp;tbnw=150&amp;prev=/images?q=recycle&amp;um=1&amp;hl=en&amp;sa=X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4000" y="2997000"/>
            <a:ext cx="533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2600"/>
            </a:br>
            <a:r>
              <a:rPr b="1" lang="en-GB" sz="2600" spc="-1" strike="noStrike">
                <a:solidFill>
                  <a:srgbClr val="7030a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ake our 20 best people away, and I will tell you that Microsoft would become an unimportant company”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Bill Gates, CEO of Microsoft in Fortune, November 25th, 1996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0" y="130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461880"/>
            <a:ext cx="8229600" cy="1062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Thought for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images.jpeg"/>
          <p:cNvPicPr/>
          <p:nvPr/>
        </p:nvPicPr>
        <p:blipFill>
          <a:blip r:embed="rId1"/>
          <a:stretch/>
        </p:blipFill>
        <p:spPr>
          <a:xfrm>
            <a:off x="0" y="2637000"/>
            <a:ext cx="36972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87640" y="191592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 believe in the adage: Hire people smarter than you and get out of their way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Howard Schultze, CEO of coffee chain Starbucks (199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0" y="130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4920" y="461880"/>
            <a:ext cx="8229600" cy="1062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Thought for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images-3.jpeg"/>
          <p:cNvPicPr/>
          <p:nvPr/>
        </p:nvPicPr>
        <p:blipFill>
          <a:blip r:embed="rId1"/>
          <a:stretch/>
        </p:blipFill>
        <p:spPr>
          <a:xfrm>
            <a:off x="468360" y="3716280"/>
            <a:ext cx="2806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purpose of HRM is to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cruit, develo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tili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organisation’s personnel in the way which is most appropriate to the achievement of the firm’s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ims and objecti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objectives of the Human Resource Depart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Recycle20ArrowswGlobe20Gu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14972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ing skills and business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ing workforce size to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nimising labour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ing use of work forces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intaining employer/ee re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organisation should 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man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ts employees in a way which is consistent with the 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objectives of the busines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 Its main purpose is to establish a 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competitive advant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crucial that the HRM functions and processes are aligned with the strategic direction of the business.  It must support the other business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2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254800" cy="1298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s the method by which a business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forecast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how many and what type of employees it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needs now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fu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is the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planning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or a firms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fu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taffing n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department must have the </a:t>
            </a:r>
            <a:r>
              <a:rPr b="0" lang="en-GB" sz="3000" spc="-1" strike="noStrike">
                <a:solidFill>
                  <a:srgbClr val="ff3300"/>
                </a:solidFill>
                <a:latin typeface="Calibri"/>
              </a:rPr>
              <a:t>right numb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of appropriately skilled employees to accomplish their target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.g how many workers will be needed and what kind of workforce will be needed – skilled/unskilled, fulltime/part-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es need to operate and plan for future occur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RM plan how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recrui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ff – e.g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where to advertise, how to interview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R also decides how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trea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staff while they are working for the business –e.g 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how to use their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skills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, how to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retain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them, how to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train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2800" spc="-1" strike="noStrike">
                <a:solidFill>
                  <a:srgbClr val="0000ff"/>
                </a:solidFill>
                <a:latin typeface="Calibri"/>
              </a:rPr>
              <a:t>reward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m, and eventually how to terminate their employ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fore, the likely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deman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 products and services must be anticipated and the future implications for recruitment and training considere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2" descr=""/>
          <p:cNvPicPr/>
          <p:nvPr/>
        </p:nvPicPr>
        <p:blipFill>
          <a:blip r:embed="rId1"/>
          <a:stretch/>
        </p:blipFill>
        <p:spPr>
          <a:xfrm>
            <a:off x="596880" y="414360"/>
            <a:ext cx="82551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90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Short-Term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aimed at the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immedi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eeds of the business, ie. Filling vacancies left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g. Maternity lea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lne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try to plan for the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future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E.g. if a company was aiming to change its production techniques, it would need to plan in adva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5757840" cy="32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alibri"/>
              </a:rPr>
              <a:t>Human Resource</a:t>
            </a:r>
            <a:r>
              <a:rPr b="0" i="1" lang="en-US" sz="5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management:</a:t>
            </a:r>
            <a:br>
              <a:rPr sz="5400"/>
            </a:br>
            <a:br>
              <a:rPr sz="5400"/>
            </a:br>
            <a:r>
              <a:rPr b="0" i="1" lang="en-US" sz="5400" spc="-1" strike="noStrike">
                <a:solidFill>
                  <a:srgbClr val="008000"/>
                </a:solidFill>
                <a:latin typeface="Calibri"/>
              </a:rPr>
              <a:t>Employment Cyc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03640" y="3250800"/>
            <a:ext cx="5688000" cy="27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·      </a:t>
            </a: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establish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·         mainte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·         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0" y="130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387440" y="461880"/>
            <a:ext cx="990720" cy="990720"/>
          </a:xfrm>
          <a:prstGeom prst="rect">
            <a:avLst/>
          </a:prstGeom>
          <a:solidFill>
            <a:srgbClr val="1fe3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387440" y="2747880"/>
            <a:ext cx="99072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44440" y="3890880"/>
            <a:ext cx="990720" cy="990720"/>
          </a:xfrm>
          <a:prstGeom prst="rect">
            <a:avLst/>
          </a:prstGeom>
          <a:solidFill>
            <a:srgbClr val="e3b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44440" y="1604880"/>
            <a:ext cx="990720" cy="99072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403280" y="5013360"/>
            <a:ext cx="990720" cy="990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temp-2"/>
          <p:cNvPicPr/>
          <p:nvPr/>
        </p:nvPicPr>
        <p:blipFill>
          <a:blip r:embed="rId1"/>
          <a:stretch/>
        </p:blipFill>
        <p:spPr>
          <a:xfrm>
            <a:off x="179280" y="5051520"/>
            <a:ext cx="1224000" cy="96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"/>
          <p:cNvPicPr/>
          <p:nvPr/>
        </p:nvPicPr>
        <p:blipFill>
          <a:blip r:embed="rId2"/>
          <a:srcRect l="57392" t="49028" r="21208" b="30319"/>
          <a:stretch/>
        </p:blipFill>
        <p:spPr>
          <a:xfrm>
            <a:off x="179280" y="496800"/>
            <a:ext cx="1079640" cy="939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mmipublicrelations.com/images/uploads/leadership.jpg"/>
          <p:cNvPicPr/>
          <p:nvPr/>
        </p:nvPicPr>
        <p:blipFill>
          <a:blip r:embed="rId3"/>
          <a:stretch/>
        </p:blipFill>
        <p:spPr>
          <a:xfrm>
            <a:off x="1332000" y="38354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4" descr="400_F_2204087_ipqib7qi6TroUtl81kleW2HRST80Nd"/>
          <p:cNvPicPr/>
          <p:nvPr/>
        </p:nvPicPr>
        <p:blipFill>
          <a:blip r:embed="rId4"/>
          <a:stretch/>
        </p:blipFill>
        <p:spPr>
          <a:xfrm>
            <a:off x="179280" y="2797200"/>
            <a:ext cx="1152720" cy="88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catalize.be/public/images/managers.jpg"/>
          <p:cNvPicPr/>
          <p:nvPr/>
        </p:nvPicPr>
        <p:blipFill>
          <a:blip r:embed="rId5"/>
          <a:stretch/>
        </p:blipFill>
        <p:spPr>
          <a:xfrm>
            <a:off x="1403280" y="1735200"/>
            <a:ext cx="10810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5:33:32Z</dcterms:created>
  <dc:creator>Zaira</dc:creator>
  <dc:description/>
  <dc:language>en-US</dc:language>
  <cp:lastModifiedBy>Ernest Reichelt</cp:lastModifiedBy>
  <cp:lastPrinted>2012-04-13T14:19:56Z</cp:lastPrinted>
  <dcterms:modified xsi:type="dcterms:W3CDTF">2013-06-08T11:03:45Z</dcterms:modified>
  <cp:revision>237</cp:revision>
  <dc:subject/>
  <dc:title>Managing Change: Internal causes of change</dc:title>
</cp:coreProperties>
</file>